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51DD-06F9-4043-9AE8-B8AAE9803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the-calvin-cycle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ikidoc.org/index.php/Thylak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43D-7ADE-42C2-AE67-8686BA87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0F3-8D57-4D11-BA97-848F4877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CBD-F8BF-4A39-B267-325F5E88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708-C7D0-461D-BE9E-B76CF460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7937-2357-4347-A1F5-70718EE2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811-3280-4F86-8363-7CFA2040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9EFF-F7E4-43D7-AAD6-7C4C8E9B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A9B-7138-42F4-B3F1-B98B69E1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AC09-4CCF-4534-9418-1D933003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CEBF-3538-484F-B514-070ACF38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A3C-9B8D-4F81-AC97-15882F4D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EF7-3E69-4100-9A34-D950754F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FFF1-C04F-4D8C-8B1D-CF7696B42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ence.smith.edu/departments/Biology/Bio231/calvin.html" TargetMode="External"/><Relationship Id="rId2" Type="http://schemas.openxmlformats.org/officeDocument/2006/relationships/hyperlink" Target="http://highered.mcgraw-hill.com/sites/0070960526/student_view0/chapter5/animation_quiz_1.ht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E82qtKSSH4&amp;feature=endscreen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ways of Photosynthe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st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enzyme-catalyzed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arbon fi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eduction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uBP 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57520" y="609480"/>
            <a:ext cx="5627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3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ecules that enter the Calvin cycle, 1 G3P molecule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G3P molecules are used to regenerate Ru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of Calvin cy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ience.smith.edu/departments/Biology/Bio231/calvi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with qui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highered.mcgraw-hill.com/sites/0070960526/student_view0/chapter5/animation_quiz_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1 G3P molecule that comes out of the Calvin cycl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9 A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 NAD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Reactions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63720" y="1981080"/>
            <a:ext cx="721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et that Photosynthesis song out of your head and fill it with a photosynthesis ra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pE82qtKSSH4&amp;feature=end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22:11:05Z</dcterms:created>
  <dc:creator>rubina khan</dc:creator>
  <dc:description/>
  <dc:language>en-US</dc:language>
  <cp:lastModifiedBy>rubina khan</cp:lastModifiedBy>
  <dcterms:modified xsi:type="dcterms:W3CDTF">2013-10-30T17:07:05Z</dcterms:modified>
  <cp:revision>31</cp:revision>
  <dc:subject/>
  <dc:title>PowerPoint Presentation</dc:title>
</cp:coreProperties>
</file>